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7968B-3EF8-4AAF-B453-E8C1633CC3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level – fair execution of process steps and user automata ste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level – fair access to shared re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passes….if a process is in T for some time, the during this time, some other user may enter C only a number of ti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exclusion : similar to dijkstra. If proc I and j are in C, assume I sets flag first. After j sets flag to 1, it has to check to see if I has flag = 1, but this will happen while flag(i) =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means that if two things are in C, then number(i),I &lt; number(j),j and vice versa which is a contradi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Proof by contradiction. Suppose all processes in T or R because progress is not guaranteed. All processes in T eventually complete so process with lowest is going to enter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 freedom: complex pro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writer: Process I goes from T to C…writes atleast one shared var. So if there are two process, then atleast n shared vars req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ition relation: s pi sprime where s and sprime are automaton 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enabled: for every automaton state S and transition pi, there is exists sprime such that s pi sprime is in tr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ity restrictions: Any state change not involving shared var can change state in local process on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variables: only read and 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region is between try and cr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 is between crit and ex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t is between exit and r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 is between rem and next 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 formed: A try-crit-exit-rem is the prefix to many more su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ex: No reachable system state in which more than one user is in a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gress: If one program is in try and none in critical then at some point someone enters C. Similarly for exit region and non 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wo are safety properties, 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liveness….notion of fairness in prog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ared responsibility for progress….upto users also…not just protoc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kout: No guarantee that everyone will get to critical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7C01F-C72A-4339-98B2-C8915141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2731C-D165-488A-96D8-549C43BE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9CF0-1503-45CA-91B8-8F2FC313F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7600E-C6CC-42B6-96B6-1F3958EB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CA2C-4D07-403E-AFEF-C9574FB7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FD641-DF73-4A08-86BE-B6FE7BE2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194D0-8BEF-462D-8C34-B8C06216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306FB-CB3D-4655-90E3-52CC9A75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85EEB-FC14-4D02-8247-B64A4296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AF27-5E0E-49E7-816F-5317079E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590A6-C8C5-4E27-9C58-43AD47AE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D4212-F39F-4384-9176-5D4211E0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D1DF-3C23-4E15-A8CD-035B7DF7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5A2CE-DB53-476D-B8C4-A414893A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1B08-9C47-45D0-A127-F0FF59F91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297A-EBA2-4400-98C0-0B545FA9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1ECB6-6DD0-426C-89C8-EE332504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53128-2437-4099-9A48-5E0954F0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9B82C8-3BB1-4F18-A09D-25967A444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626F0-0898-4BED-BF60-7C57EB1B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F985D-7112-4AE2-9A12-80BFE6D76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9CE55-5CE4-47E6-B7DD-578714D44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E79EC-789A-4A4D-8FA4-0812DF266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E3D8-A766-4656-8E0E-9C1159AC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78C1-CFC6-4DB2-AC1D-B492ED95DC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84CB-3642-43C2-83FB-2D8DF643C9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Mutual Exclusion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Presented by: Rohan Se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Distributed Algorithms Ch. 10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lockouts or starv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nds of fair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fair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onger Conditions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kout free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T eventually enters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user that reaches E eventually enters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bou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user returns resource within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each step is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you enter C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you enter R at mos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 = f(l,c)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entering 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yp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k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each level eliminate one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– k processes can win at level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process can win at level n – 1, yielding mutual excl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685800" y="2362320"/>
                <a:ext cx="4425840" cy="17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(k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/ wr by all, ini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d by all j ≠ i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600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066680" y="1981080"/>
                <a:ext cx="5829480" cy="33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o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k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[</m:t>
                        </m:r>
                        <m:r>
                          <m:t xml:space="preserve">∀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k</m:t>
                        </m:r>
                        <m:r>
                          <m:t xml:space="preserve">]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(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]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NP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kout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g. Using Single Writer Shared Registers (BurnsME Algorith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if anyone else is trying to get a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 claim on the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a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609480" y="2286000"/>
                <a:ext cx="34527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ag(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r by i / rd by all j ≠ I, initially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066680" y="1828800"/>
                <a:ext cx="3810240" cy="388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r>
                          <m:t xml:space="preserve">M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j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M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rnsM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pics that will be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erview and problem sta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jkstra’s Mutual Exclusion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onger Conditions for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kout-free Mutual Exclusion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-Writer Shared Register Algorith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kery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O after a wait-free door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orway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picks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its for everyone to fin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 ties and enter critical 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57200" y="2057400"/>
                <a:ext cx="3394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</m:t>
                            </m:r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r>
                          <m:t xml:space="preserve">Ν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oosn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umber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 by i / rd by all j ≠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57200" y="2577600"/>
            <a:ext cx="4038480" cy="2692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685800" y="1828800"/>
                <a:ext cx="7924680" cy="426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hoosn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aitfor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&lt;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x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kery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well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lockout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wer bound on # regi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mutual exclusion with &lt;n shar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 writer shared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: One at a time access to a shared re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o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exclusion w/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imizing the number of regi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25909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ared memory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is a kind of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of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kinds of actions: input, output, inter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communication via the shared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s a transition relation for all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is input-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output and internal enab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ity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shared variable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of single, indivisible, non-shareable resource amo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s by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ying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tical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ainder (non-critical reg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105520" y="2666880"/>
            <a:ext cx="1981080" cy="20574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02800" y="2666880"/>
            <a:ext cx="5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05720" y="2895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7010280" y="3429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705720" y="44956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5880" y="5029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interface of a 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oblem (cont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ared memory syste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lves the mutual exclusion probl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hen the following conditions are satisfi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formed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tual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a two stage flag to indicate what stage of processing a user is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mutual exclusion by ensuring that only one flag at a time has a value to let it into the critical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762120" y="2311560"/>
                <a:ext cx="6019560" cy="78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,</m:t>
                            </m:r>
                            <m:r>
                              <m:t xml:space="preserve">n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ry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≤</m:t>
                        </m:r>
                        <m:r>
                          <m:t xml:space="preserve">i</m:t>
                        </m:r>
                        <m:r>
                          <m:t xml:space="preserve">≤</m:t>
                        </m:r>
                        <m:r>
                          <m:t xml:space="preserve">n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4000320"/>
            <a:ext cx="8229600" cy="186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ur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/ wr by all processes, intially arbit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d by all / wr by I, initially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75248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ar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295280" y="1752480"/>
                <a:ext cx="4876920" cy="46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r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t xml:space="preserve">L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il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 </m:t>
                        </m:r>
                        <m:r>
                          <m:t xml:space="preserve">≠</m:t>
                        </m:r>
                        <m:r>
                          <m:t xml:space="preserve"> 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urn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i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</m:t>
                        </m:r>
                        <m:r>
                          <m:t xml:space="preserve"> </m:t>
                        </m:r>
                        <m:r>
                          <m:t xml:space="preserve">j</m:t>
                        </m:r>
                        <m:r>
                          <m:t xml:space="preserve">≠</m:t>
                        </m:r>
                        <m:r>
                          <m:t xml:space="preserve">i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o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j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goto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ri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x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lag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e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jkstra’s Mutual Exclusion Alg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well-form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 inspection of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ies mutual ex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statu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antees prog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plex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04:22:41Z</dcterms:created>
  <dc:creator>Rohan Sen</dc:creator>
  <dc:description/>
  <dc:language>en-US</dc:language>
  <cp:lastModifiedBy>Rohan Sen</cp:lastModifiedBy>
  <dcterms:modified xsi:type="dcterms:W3CDTF">2003-09-19T18:11:57Z</dcterms:modified>
  <cp:revision>27</cp:revision>
  <dc:subject/>
  <dc:title>Mutual Exclusion</dc:title>
</cp:coreProperties>
</file>